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C02-1B00-4378-8AB1-38202675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383-AF59-4C93-A7BD-B28B249A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CC3-B54F-4097-8EA7-A6A370C3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36D-1C5E-4126-A244-12CEF270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D04-5A5C-4C66-BE7A-1DC28636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3B2-6AAF-4624-8EE4-19463BBD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AEC-5DE4-40E9-AE40-ADC96597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5B8-25F8-47B5-8B47-C768FFCF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449-DB26-462B-9A85-EEB4DA84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ABE-31A9-4AD1-B60E-0872BF1A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B2E-428C-4C1E-9A44-EF1FDBFC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A60-AA6B-4374-AA41-6BB91BC1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047C-9C39-421D-B80B-D7027ECD9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hkola-abv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Кто чем поёт.mp3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938520" cy="9381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0" y="0"/>
            <a:ext cx="9144000" cy="2857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0" y="2857680"/>
            <a:ext cx="9144000" cy="400032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Кто чем поет?"/>
          <p:cNvPicPr/>
          <p:nvPr/>
        </p:nvPicPr>
        <p:blipFill>
          <a:blip r:embed="rId2"/>
          <a:stretch/>
        </p:blipFill>
        <p:spPr>
          <a:xfrm>
            <a:off x="6786720" y="3857760"/>
            <a:ext cx="2087280" cy="27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talks.guns.ru/forums/icons/forum_pictures/002958/2958610.jpg"/>
          <p:cNvPicPr/>
          <p:nvPr/>
        </p:nvPicPr>
        <p:blipFill>
          <a:blip r:embed="rId3"/>
          <a:stretch/>
        </p:blipFill>
        <p:spPr>
          <a:xfrm>
            <a:off x="12600" y="3803760"/>
            <a:ext cx="3095640" cy="29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bronzovka.ru/glava06_1/pic/606a.jpg"/>
          <p:cNvPicPr/>
          <p:nvPr/>
        </p:nvPicPr>
        <p:blipFill>
          <a:blip r:embed="rId4"/>
          <a:stretch/>
        </p:blipFill>
        <p:spPr>
          <a:xfrm>
            <a:off x="3736800" y="4084560"/>
            <a:ext cx="295596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www.ljplus.ru/img4/l/e/leksandra/IMG_1588dyatel.JPG"/>
          <p:cNvPicPr/>
          <p:nvPr/>
        </p:nvPicPr>
        <p:blipFill>
          <a:blip r:embed="rId5"/>
          <a:stretch/>
        </p:blipFill>
        <p:spPr>
          <a:xfrm>
            <a:off x="1878120" y="1517760"/>
            <a:ext cx="3174840" cy="306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http://res.krasu.ru/nature/a/ljagushka-ostr.jpg"/>
          <p:cNvPicPr/>
          <p:nvPr/>
        </p:nvPicPr>
        <p:blipFill>
          <a:blip r:embed="rId6"/>
          <a:stretch/>
        </p:blipFill>
        <p:spPr>
          <a:xfrm>
            <a:off x="5742000" y="804960"/>
            <a:ext cx="3273480" cy="29923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5" descr=""/>
          <p:cNvPicPr/>
          <p:nvPr/>
        </p:nvPicPr>
        <p:blipFill>
          <a:blip r:embed="rId7"/>
          <a:stretch/>
        </p:blipFill>
        <p:spPr>
          <a:xfrm>
            <a:off x="512640" y="-6480"/>
            <a:ext cx="5473800" cy="136548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4429080" y="2089800"/>
            <a:ext cx="471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будила шмелиная песня зелёную Саранчу в тра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тала Саранча скрипочки налаживать. Скрипочки у неё на крылышках, а вместо смычков — длинные задние лапки колонками назад. На крыльях — зазубринка, а на ножках зацеп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Трёт себя Саранча ножками по бокам, зазубринками за зацепочки задевает — стрекоч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аранчи на лугу много: целый струнный оркес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Кто чем поет?"/>
          <p:cNvPicPr/>
          <p:nvPr/>
        </p:nvPicPr>
        <p:blipFill>
          <a:blip r:embed="rId1"/>
          <a:stretch/>
        </p:blipFill>
        <p:spPr>
          <a:xfrm>
            <a:off x="214200" y="214200"/>
            <a:ext cx="3905280" cy="5715000"/>
          </a:xfrm>
          <a:prstGeom prst="rect">
            <a:avLst/>
          </a:prstGeom>
          <a:ln w="0">
            <a:noFill/>
          </a:ln>
        </p:spPr>
      </p:pic>
    </p:spTree>
  </p:cSld>
  <p:transition advTm="2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2" descr="Кто чем поет?"/>
          <p:cNvPicPr/>
          <p:nvPr/>
        </p:nvPicPr>
        <p:blipFill>
          <a:blip r:embed="rId1"/>
          <a:stretch/>
        </p:blipFill>
        <p:spPr>
          <a:xfrm>
            <a:off x="142920" y="500040"/>
            <a:ext cx="44290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4786200" y="230040"/>
            <a:ext cx="4143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Эх, — думает долгоносый Бекас под кочкой, — надо и мне спеть! Только вот чем? Горло у меня не годится, нос не годится, шея не годится, крылышки не годятся, лапки не годятся… Эх! Была не была, — полечу, не смолчу, чем-нибудь да закрич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ыскочил из-под кочки, взвился, залетел под самые облака. Хвост раскрыл веером, выпрямил крылышки, перевернулся носом к земле и понёсся вниз, переворачиваясь с боку на бок, как брошенная с высоты дощечка. Головой воздух рассекает, а в хвосте у него тонкие, узкие перышки ветром перебир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8" descr="Кто чем поет?"/>
          <p:cNvPicPr/>
          <p:nvPr/>
        </p:nvPicPr>
        <p:blipFill>
          <a:blip r:embed="rId1"/>
          <a:stretch/>
        </p:blipFill>
        <p:spPr>
          <a:xfrm>
            <a:off x="4000680" y="241200"/>
            <a:ext cx="4662360" cy="6178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214200" y="21420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 слышно с земли: будто в вышине барашек запел, заблея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А это Бек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адай, чем он по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вост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floranimal.ru/pages/animal/v/897.jpg"/>
          <p:cNvPicPr/>
          <p:nvPr/>
        </p:nvPicPr>
        <p:blipFill>
          <a:blip r:embed="rId2"/>
          <a:stretch/>
        </p:blipFill>
        <p:spPr>
          <a:xfrm>
            <a:off x="231840" y="2567160"/>
            <a:ext cx="2840040" cy="40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2771640" y="27813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hkola-ab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85840" y="597960"/>
            <a:ext cx="4572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лышишь, какая музыка гремит в лес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лушая её, можно подумать, что все звери, птицы и насекомые родились на свет певцами и музыка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Может быть, так оно и есть: музыку ведь все любят, и петь всем хочется. Только не у каждого голос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от послушай, чем и как поют безголос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Лягушки на озере начали ещё с но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дули пузыри за ушами, высунули головы из воды, рты приоткр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Ква-а-а-а-а!..» — одним духом пошёл из них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Кто чем поет?"/>
          <p:cNvPicPr/>
          <p:nvPr/>
        </p:nvPicPr>
        <p:blipFill>
          <a:blip r:embed="rId1"/>
          <a:stretch/>
        </p:blipFill>
        <p:spPr>
          <a:xfrm>
            <a:off x="4929120" y="285840"/>
            <a:ext cx="4000680" cy="5970600"/>
          </a:xfrm>
          <a:prstGeom prst="rect">
            <a:avLst/>
          </a:prstGeom>
          <a:ln w="0">
            <a:noFill/>
          </a:ln>
        </p:spPr>
      </p:pic>
    </p:spTree>
  </p:cSld>
  <p:transition advTm="2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4200" y="65016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слыхал их Аист из деревни. Обрадов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—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Целый хор! Будет мне чем поживи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 полетел на озеро завтрак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Кто чем поет?"/>
          <p:cNvPicPr/>
          <p:nvPr/>
        </p:nvPicPr>
        <p:blipFill>
          <a:blip r:embed="rId1"/>
          <a:stretch/>
        </p:blipFill>
        <p:spPr>
          <a:xfrm>
            <a:off x="4214880" y="357120"/>
            <a:ext cx="4572000" cy="627696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85840" y="363960"/>
            <a:ext cx="4071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летел и сел на берегу. Сел и дум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Неужели я хуже лягушки? Поют же они без голоса. Дай-ка и я попробу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нял длинный клюв, застучал, затрещал одной его половинкой о другую — то тише, то громче, то реже, то чаще: трещотка трещит деревянная, да и тольк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Так разошёлся, что и про завтрак свой за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Кто чем поет?"/>
          <p:cNvPicPr/>
          <p:nvPr/>
        </p:nvPicPr>
        <p:blipFill>
          <a:blip r:embed="rId1"/>
          <a:stretch/>
        </p:blipFill>
        <p:spPr>
          <a:xfrm>
            <a:off x="4572000" y="428760"/>
            <a:ext cx="4219560" cy="5715000"/>
          </a:xfrm>
          <a:prstGeom prst="rect">
            <a:avLst/>
          </a:prstGeom>
          <a:ln w="0">
            <a:noFill/>
          </a:ln>
        </p:spPr>
      </p:pic>
    </p:spTree>
  </p:cSld>
  <p:transition advTm="2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14200" y="32832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А в камышах стояла Выпь на одной ноге, слушала и дум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Безголосая я цапля! Да ведь и Аист — не певчая птичка, а вон какую песню наигрыва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 придум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Дай-ка на воде сыграю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унула в озеро клюв, набрала полный воды да как дунет в клюв! Пошёл по озеру громкий гу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Прумб-бу-бу-бумм!..» — словно бык прорев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Кто чем поет?"/>
          <p:cNvPicPr/>
          <p:nvPr/>
        </p:nvPicPr>
        <p:blipFill>
          <a:blip r:embed="rId1"/>
          <a:stretch/>
        </p:blipFill>
        <p:spPr>
          <a:xfrm>
            <a:off x="4929120" y="1177920"/>
            <a:ext cx="3876840" cy="5322960"/>
          </a:xfrm>
          <a:prstGeom prst="rect">
            <a:avLst/>
          </a:prstGeom>
          <a:ln w="0">
            <a:noFill/>
          </a:ln>
        </p:spPr>
      </p:pic>
    </p:spTree>
  </p:cSld>
  <p:transition advTm="2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6" descr="Кто чем поет?"/>
          <p:cNvPicPr/>
          <p:nvPr/>
        </p:nvPicPr>
        <p:blipFill>
          <a:blip r:embed="rId1"/>
          <a:stretch/>
        </p:blipFill>
        <p:spPr>
          <a:xfrm>
            <a:off x="4429080" y="714240"/>
            <a:ext cx="43722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285840" y="580320"/>
            <a:ext cx="3786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Вот так песня! — подумал Дятел, услыхав Выпь из лесу. — Инструмент-то у меня найдётся: чем дерево не барабан, а нос мой чем не палочка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www.forest.ru/rus/publications/lesnich/22_dyatel.jpg"/>
          <p:cNvPicPr/>
          <p:nvPr/>
        </p:nvPicPr>
        <p:blipFill>
          <a:blip r:embed="rId2"/>
          <a:stretch/>
        </p:blipFill>
        <p:spPr>
          <a:xfrm>
            <a:off x="571680" y="2851200"/>
            <a:ext cx="2928600" cy="372564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85840" y="578880"/>
            <a:ext cx="414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востом он упёрся, назад откинулся, размахнулся головой — как задолбит носом по сук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Точь-в-точь барабанная дроб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7" descr="Кто чем поет?"/>
          <p:cNvPicPr/>
          <p:nvPr/>
        </p:nvPicPr>
        <p:blipFill>
          <a:blip r:embed="rId1"/>
          <a:stretch/>
        </p:blipFill>
        <p:spPr>
          <a:xfrm>
            <a:off x="4500720" y="857160"/>
            <a:ext cx="441000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9" descr="Кто чем поет?"/>
          <p:cNvPicPr/>
          <p:nvPr/>
        </p:nvPicPr>
        <p:blipFill>
          <a:blip r:embed="rId1"/>
          <a:stretch/>
        </p:blipFill>
        <p:spPr>
          <a:xfrm>
            <a:off x="4224240" y="214200"/>
            <a:ext cx="4686480" cy="6072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14200" y="302400"/>
            <a:ext cx="3571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ылез из-под коры Жук с предлинными у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Закрутил, закрутил головой, заскрипела его жёсткая шея — тоненький-тоненький писк послыш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ищит усач, а всё напрасно: никто его писка не слышит. Шею натрудил — зато сам своей песнею дово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28760" y="497160"/>
            <a:ext cx="371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А внизу, под деревом, из гнезда вылез Шмель и полетел петь на луж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округ цветка на лужку кружит, жужжит жилковатыми жёсткими крылышками, словно струна гу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0" descr="Кто чем поет?"/>
          <p:cNvPicPr/>
          <p:nvPr/>
        </p:nvPicPr>
        <p:blipFill>
          <a:blip r:embed="rId1"/>
          <a:stretch/>
        </p:blipFill>
        <p:spPr>
          <a:xfrm>
            <a:off x="4071960" y="571680"/>
            <a:ext cx="48481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www.zooclub.ru/chlen/images/48.jpg"/>
          <p:cNvPicPr/>
          <p:nvPr/>
        </p:nvPicPr>
        <p:blipFill>
          <a:blip r:embed="rId2"/>
          <a:stretch/>
        </p:blipFill>
        <p:spPr>
          <a:xfrm>
            <a:off x="571680" y="3325680"/>
            <a:ext cx="3500280" cy="28940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9:30:44Z</dcterms:created>
  <dc:creator>Татьяна Ивановна</dc:creator>
  <dc:description/>
  <dc:language>en-US</dc:language>
  <cp:lastModifiedBy>Microsoft </cp:lastModifiedBy>
  <dcterms:modified xsi:type="dcterms:W3CDTF">2016-02-28T06:37:05Z</dcterms:modified>
  <cp:revision>14</cp:revision>
  <dc:subject/>
  <dc:title>Слайд 1</dc:title>
</cp:coreProperties>
</file>